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62A6-36DC-4C92-843D-C0011BF90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900A-03D5-4337-8AB6-4CF19381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157D-1DAC-4669-8F1A-EA4747CA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A352-EF92-4439-8D95-AC11D8AD8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12F04-AD34-4B47-9AF3-2602CE38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28A4E-B7E9-44D8-9B88-DE6EB051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8A38F-4C9E-482A-9B42-80D53673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0F6D5-D860-41EF-8A42-DA2883E1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624C3-B2BF-4796-A1AD-E4D50511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FD603-46CF-4377-B284-A633CCE3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9B863-DFD7-4C4A-A192-AC30A2F0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BF04-96A0-4C21-90B9-01CFEC09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49EB7-0FB6-41A0-8119-3BED2B03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8CBF8-C8CD-4CF6-A86F-2172A1A8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9D6DD-5403-426E-9250-48AE014A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76738-D765-470F-BE2C-FA9FC45EF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FED72-9F5C-4C44-AC90-6EB13AA60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012A-C429-4C56-8770-5782AB7C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A8D7-C5D0-4C13-B1C1-85757F33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412A-CBE4-410A-899D-B20F9CE3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757E-C974-467B-95E2-0DB18DF7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3F86-F9E9-44B7-B491-EE62AEA6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6442-EB7E-47EB-BB57-D5579F19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9D71-B7EC-42CD-A1C0-06A36184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C07C-F2FF-4DF5-8EA2-3450FA36361F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4A18-72CA-4A4C-8E52-86AFBC2F3544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mera.wav" TargetMode="External"/><Relationship Id="rId2" Type="http://schemas.microsoft.com/office/2007/relationships/media" Target="file:///tmp/home/.config/libreoffice/4/user/gallery/camera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0720" y="1295280"/>
            <a:ext cx="7416720" cy="422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14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AS 23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تكلفة الاقتراض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pic>
        <p:nvPicPr>
          <p:cNvPr id="12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audio isNarration="0">
              <p:cMediaNode showWhenStopped="1">
                <p:cTn/>
                <p:tgtEl>
                  <p:spTgt spid="12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16000" y="1267920"/>
            <a:ext cx="57704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حالات صعوبة ربط تكلفة الاقتراض بالأصل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حدد قيمة تكلفة الاقتراض التى يمكن رسملتها باستخدام معدل للرسملة يحسب على أساس المتوسط المرجح لتكلفة الاقتراض للمنشأة عن القروض القائمة خلال الم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هنا تستبعد القروض التى تم إبرامها تحديداً بغرض إقتناء أصل بذات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جب ألا تزيد قيمة تكلفة الاقتراض المرسملة خلال فترة ما عن قيمة تكلفة الاقتراض التى تم تكبدها خلال تلك الفتر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659280" y="620280"/>
            <a:ext cx="20271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بدء الرسمل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87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عندما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4920" indent="0" algn="r" rtl="1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(أ)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الإنفاق على الأص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  (ب) تكبد المنشأة تكلفة إقتراض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  (ج) تكون الأنشطة اللازمة لإعداد الأصل للاستخدام فى الأغراض المحددة له أو بيعه للغير محل تنفيذ فى الوقت الحال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لاحظ   ( و )    ليس   ( أو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80000" y="404280"/>
            <a:ext cx="30463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توقف عن الرسمل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136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يجب التوقف عن رسملة تكلفة الاقتراض خلال الفترات التى تتعطل فيها أعمال الإنشاء الفعالة للأص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ا يتم تعليق رسملة تكلفة الاقتراض عندما يكون التوقف المؤقت بمثابة خطوة ضرورية فى عملية إعداد الأصل للاستخدام فى الأغراض المحددة  له أو لبيعه للغير مثل الفترات المطلوبة لنضج المخزو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يجب الانتهاء من عملية رسملة تكلفة الاقتراض عندما يتم الانتهاء من كل الأنشطة الجوهرية اللازم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ل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إعداد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أصل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عندما يتم الانتهاء من إنشاء أجزاء من الأصل و يكون من الممكن استخدام كل جزء من هذه الأجزاء أثناء استمرار عملية إنشاء باقى الأجزاء الأخرى فإنه يتعين التوقف عن رسملة تكلفة الاقتراض على الأجزاء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08720" y="475920"/>
            <a:ext cx="1378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ثـــال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351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شركة حصلت على القروض الآتية خلال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لتمويل مشروعاتها المتضمنة إنشاء مشروع مدينة سكنية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قرض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معدل 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 خاصة بمشروع المدينة السكن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قرض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معدل 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 خاصة بمشروع آخ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قرض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وقد بلغت المبالغ المنفقة على مشروع المدينة السكنية خلال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مبلغ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المطلوب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حديد تكلفة الاقتراض الواجب رسملتها على مشروع المدينة السكن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  - تكلفة الاقتراض الخاصة بالقرض الاول المخصص للمشرو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ب – تكلفة الاقتراض الخاصة بالقروض الاخر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فائدة المحتسبة على القرض الثالث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8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فائدة المحتسبة على القرض الرابع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6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كلفة الاقترا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معدل الرسملة = ـــــــــــــــــــــــــــــــــــــــــــــــــــ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 المتوسط المرجح للقرو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93080" y="836640"/>
            <a:ext cx="12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حــل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4920" y="1599840"/>
            <a:ext cx="806436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8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=  ــــــــــــــــــــــــــــــــــــــــــــــــــ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.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نصيب المشروع =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.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7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ج – تكلفة الاقتراض التى يجب رسملتها =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67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67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جني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50920" y="907560"/>
            <a:ext cx="224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حتويــــ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79280" y="2205000"/>
            <a:ext cx="4753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هدف المعيا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قياس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بديلة المسموح ب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03640" y="2781000"/>
            <a:ext cx="244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هدف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هدف هذا المعيار إلى تحديد المعالجة المحاسبية لتكلفة الاقتراض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طلب هذا المعيار بشكل عام معالجة تكاليف الاقتراض كمصروفات فور تكبدها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المعالجة البدي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سمح كمعالجة بديلة برسملة تكلفة الاقتراض التى ترجع مباشرة إلى اقتناء أو إنشاء أو إنتاج أصل مؤهل لتحمل تكلفة الاقتراض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443280" y="691920"/>
            <a:ext cx="224316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هدف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2565000"/>
            <a:ext cx="345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قياس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867280" y="1125360"/>
            <a:ext cx="28195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عالجة القياس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362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ثبت تكلفة الاقتراض كمصروفات تحمل على الفترة التى تكبدت فيها المنشأة هذه التكلف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جب الإفصاح فى القوائم المالية عن السياسة المحاسبية المتبعة لمعالجة تكلفة الاقتراض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56000" y="270792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بديلة المسموح بها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40000" y="620640"/>
            <a:ext cx="45464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عالجة البديلة المسموح بها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رسملة تكلفة الاقتراض المتعلقة مباشرة باقتناء أو إنشاء أو إنتاج الأصل الذى يتطلب بالضرورة فترة زمنية طويلة لتجهيزه للاستخدام فى الأغراض المحددة له أو لبيعه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يتم رسملة تكلفة الاقتراض هذه ضمن تكلفة الأصل عندما يكون متوقعاً أن تتسبب فى خلق منافع اقتصادية مستقبلية للمنشأة وتكون هناك إمكانية لقياس التكلفة بشكل يمكن الاعتماد عليه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95280" y="1196640"/>
            <a:ext cx="46911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تكلفة الإقتراض المؤهلة للرسملة</a:t>
            </a:r>
            <a:r>
              <a:rPr b="1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هى تكلفة الاقتراض التى  كان يمكن تجنبها إذا لم يتم الإنفاق على هذا الأص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طرح من تكلفة الاقتراض المرسملة أى إيراد تحقق من الاستثمار المؤقت للأموال المقترض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تخفيض أو استبعاد الزيادة فى القيمة الدفترية للأصل نتيجة الرسملة عن قيمته الإستردادية من القيمة الدفترية للأصل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20:05:14Z</dcterms:created>
  <dc:creator>Eissa</dc:creator>
  <dc:description/>
  <dc:language>en-US</dc:language>
  <cp:lastModifiedBy>m.farouk</cp:lastModifiedBy>
  <dcterms:modified xsi:type="dcterms:W3CDTF">2006-11-13T09:02:30Z</dcterms:modified>
  <cp:revision>19</cp:revision>
  <dc:subject/>
  <dc:title>معيار المحاسبة المصرى رقم (14) تكلفة الاقتراض</dc:title>
</cp:coreProperties>
</file>